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D6C-98FE-409E-B35F-54CEF2BD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BCF-6A88-4674-BE73-93B775A6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CCB89-6C48-4721-B7BC-A338C361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B49BA-A82A-47F1-AEB8-3E8E424B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C3190-F54B-42EA-AEC0-3163DCE1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D9C5F-7174-47E4-BEFC-AD7C9978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01C2D-77A4-4AD6-AF6E-7E376889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694C5-1965-410E-A2B3-4CFE29C6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208CC-B021-488B-9731-6E556A4E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378C1-1EF4-41C3-A260-2150C3D9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12E2B-D199-441C-8DD5-3A9389AC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7CA56-3847-4DB7-ADE1-DF3D68AF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8FE-7021-46A6-89AD-92F51DB4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C9916-AD2C-4E15-B1B8-4407E342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2DB58-F542-485B-9B0F-749E3E4E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85692-67A1-43B5-BAF4-C1A5617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46C85-9AF1-4245-B036-A414AC94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8D5F3-5906-49BF-A466-D703272E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A2C2F-12CC-44BC-9931-DE600DC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E1B50-9AF5-41F9-8699-EBF0B8E3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0BEB5-42C2-4DB2-BCE6-1B606A0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8DC38-DAB1-4A92-994B-7D653615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DC3FC-A372-4FF7-AF30-9737C4BB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FA1-FA33-434C-9A50-EC9E7F52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4DC64-E437-4FCA-ABFE-3AFF6360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24532-28B4-4DCC-A637-4EDB708F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9EB01-7B9D-451E-BC90-923BBEB0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E857D-A36E-4356-81BA-7EE512A6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DB329-870C-46C3-972A-B90C1770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11EFF-46AC-4EBF-8518-EC72FB05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84D11-C5DE-4616-8C31-8F0B139A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D378F-83D3-489E-9FAE-6FFC6E4D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D9FD3-41BE-4A42-8796-A5BAA29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52B13-1FFC-40A2-A3FA-0BBCC3FA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0127-F0F1-47AD-BBE4-317F3794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B41F1-DEAC-4488-A6BA-8AB5CB7F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4D770-C8EB-4059-8811-2D4B6FD6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56F28-B2B8-4CFA-BFA3-889C41CC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ACBCD-CBED-4921-90F7-15EF1DF6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F400D-5739-4B77-85CC-8CA2FB67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E13F3-9D29-4C40-9136-DF1209AB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89655-0E72-4796-B4BB-F48E707D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DF064-9E52-4370-9DE3-1648C403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594EC-661C-4DA5-8EE0-12B59502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96AC7-87A0-4897-ACBF-0B306B94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DD3E-5A58-456E-8C07-E7B013A1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C560C-B859-485D-AB60-69EF209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DDA37-CFD2-4A9C-BADB-03E0DCE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21947-9580-4B98-AC54-986FDF38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C4F2E-AEC3-4C65-8401-9929E67F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ADFF2-7A3E-4031-B9D9-F8B3D29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8B237-97B1-4485-93F7-CC9DB6D7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5A9CC-FE4B-48AB-A03F-20D6A7B2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AAC6B-5B46-4BF1-874D-0919DCD9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FF6B7-83F7-4A81-8DEB-F8C68945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6B622-53ED-4571-86DB-EE99E7F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A578-2381-4F95-8B02-CCCBD0CB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DCF55-A612-4EB5-8B06-DE0DF7B6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396B4-2128-4C7C-81D9-151B08D6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6D172-E445-44ED-8DF8-6B4EA14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A50B8-2B80-4459-AC35-0B40B043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69488-08B1-4D4D-8A69-FA3E2F90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FC038-AD81-4A95-8227-91381505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3E43C-8E2B-42DA-8685-9EF7D8EF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445A9-AB72-4FEF-8A40-B2E82AAF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B8574-FD17-45EF-99EC-7853C828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5008F-AE8F-4DF0-A17E-C83E5F9A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B908-9F7B-4424-BEE9-617A03CA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1CB6E-564A-4244-8036-FD85915B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58305-9225-4053-87A1-E81CA0F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B5A10-3C1E-4234-8BAC-95CDF4E4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63E17-9A14-40A9-B46E-958F7490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D6D45-FDDE-4EBB-B834-798AD6F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04798-EC1C-4C6B-9218-AACD4033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8CC60-4136-4EC3-9E1D-5DC8865D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D3994-C88D-40F3-9766-DF7E3FAF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F953A-77FB-40A2-8720-AA83FFB7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35958-3BC5-499B-80BB-20FBCA43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83B5-BE26-4C11-8EC5-A027E6D9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69192-3C9A-413F-AB8B-57AC013B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407B6-7AC5-4272-BB5B-2994ED50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4BC78-32D6-4462-8C05-E9DC144D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DC4069-47B6-4AAD-9DC4-C1C5C139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71A5A-CAFF-44AF-B2AD-EE3311D5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3572F-3590-4F37-AA8A-8A38FB2A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F989E-DD3C-49CF-BF02-77289128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20208-7DEC-46E0-891B-FE7DE4F2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1BF81-C18C-4EA0-9677-9D37609A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80AAF-6201-40BE-ACE8-4AC1F6DB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7C5B-855E-4C0D-B70D-896C820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D6051-6F58-4F6D-BC2F-8AB4FE60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5BDF0-2BF1-404C-A403-803B24BD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39229-5924-4E04-B8E6-F941B71B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FBF57-8497-4136-A51C-E8635C04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B6FA4-CCE4-41DE-83B9-61711313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3AA25-7E31-44A6-B0AD-E919F3F9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DE0E4-A46B-49E0-8ABC-A8964D02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1FFDD-BC02-4FA7-8467-A5E5254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A76D0-1529-4A9B-A7E2-07D6D5BA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E3A0A-E8E9-4CA4-892D-08C1DDCE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CD72-21A7-4459-BBCF-1216A15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84DD2-C4F5-4B97-A285-8CC97450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AE804-5A1D-467B-A981-F237C89A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9B49D-B4E9-4423-BE1B-6220E742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23A31-BBA4-4A1B-820B-A4C3375C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58906-3A46-435C-990F-AE5652FD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DA000-CB5A-4E05-8DC3-0C6CB6F0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BF446A-743F-41CA-9591-9C46F74A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62D81-7690-472E-9580-F26A1DF4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5123B-B74F-4737-ADDE-14874099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DE170-A891-4CDB-9B23-0280517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DD2-BB4E-4752-B423-3DA1B26E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4322-EC9C-4D51-A360-44E4FA48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59696-E15E-4F98-85C7-1B830E9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8F8F0-2A34-4CBA-87F7-2190651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E8FFB-17F3-40CB-AD3D-E5093382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31C79-E2E0-4BF8-B7C2-C9D8C54E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E7F8B-48F2-4664-B531-375CCA8E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42D2F-9990-4932-B72D-FA92A519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83759-8314-4564-8FAA-095C2EFA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5928D-4911-492A-854A-2870B06A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F9C46-F614-423F-A0FC-46BA870F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C44A9-591A-4885-B509-8365BE6C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729A-91C5-46E8-8986-BA468DB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611946-2B7F-4F27-9898-AE0B1EF1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409803-EC3F-4738-9B47-4D3D13D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337B8-1A0C-4CCD-BE71-4291B2E9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2A53A-4EEE-4139-ACBD-FFDCB8B8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B80A3-74A8-418F-A7EB-157C07E4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C06A5-4ED7-4FB6-9C22-B465E325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106F8-58C7-4B49-9A9A-BB263C67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31921-466E-4312-8E90-CB47A3E4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D0715-DB11-4310-8293-19DB5D64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D969C-FFA5-44CD-9FEF-9600D19D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8035-E67A-42D1-91A3-F10648C8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532243-8500-48D1-B9FF-C3831D11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ABDD4-E354-49C5-8C41-ABBCFC98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58619F-6872-438C-B4D4-29BD4EA3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5896C-DAA0-4B4A-9F2A-6D3DF2CA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2D310-7C02-4DE8-80F4-B24F1BDE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06A729-4665-498C-8BB5-46B8488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6DA8BB-6076-4F90-986F-1CD0DF95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E25D70-7499-496D-9F16-B0D76A0F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866A4C-C8C0-4EEA-A5A5-BC126980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5C5A3-6ACF-4243-8D06-DA40B61F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3E25-9E0C-4ADE-833D-37C1A16E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EBDF5-62D3-4BBA-925E-8B8D9BE4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9DD8BC-06AB-4894-B78A-0AA60314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6A4D9C-D18C-44F2-B5C0-BF62D36C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F56BB-B874-4864-9F15-E654147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38728-53F0-4A08-BDFA-44EED1D1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B3D8D-7DC3-47EA-A2C5-81DA612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7E49F-8347-4556-B106-1085320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2888B-D411-4FE9-B0AE-479B61CE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6EF57F-B46D-4B53-B1F1-63268171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D1116-2A4E-476A-9734-DD5B1561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E990-2A41-4AED-BA29-E45CC35B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000A5-62F9-4FEE-931D-5C9A4BC2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467EF-74E6-410B-98F7-4FFB88F0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8B3E8-29C3-4736-AEDF-A73C2506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F31B8-3AB3-4F2C-AE50-0816CA1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FE67A9-FEFC-47DF-959F-3848B40B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3BF1AB-BD19-42C4-BA79-1AB28059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064690-658B-4B34-B272-FC9FF09C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93BDC-6612-4E2C-B4F6-42F58DF3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817EF-B8CC-4B9A-A061-21D0E70F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43873-7775-46E2-A44B-4A987785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8B71-E7DA-4E4A-9A1D-70349B1D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AF2D70-96E9-4517-912C-1A395C0E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07B783-5C01-4942-8B51-B2FF4113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241DDF-16DD-4A30-BD60-256FADF0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C750-EAA8-411F-8B03-0E999774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1595-56FC-4032-96D2-4B7E53AD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84F1-2240-4807-AB8D-C7760C8E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B42A-E0B5-4D36-B6B9-EB62F93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44D-18E2-47AE-BDD5-AE8C5BD0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ED2E-BFE0-4546-BA72-2399F96F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AFEF-7C10-462C-8D45-ACBBE40B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D0FD-B739-47E4-B885-CA62E1AB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0DF42-31AC-47B5-8346-8043E4D6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EE80-3A70-4015-A101-940996DD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2967-B729-4825-AC82-1EE754F4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FD7E-DCD5-42E8-8893-50486E74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53C7-ECD0-4832-8A2E-8E75B718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0805-76A3-4606-B30F-602C0B6B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C87C-6EE4-4A1B-8F5F-ACBB1699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3ED-6439-4122-8161-F24D1A7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11A24-F4E2-4761-A623-2F262B55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3344-19CF-442F-9D03-32852CAC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FF12F-030C-452E-90C4-1665E11E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8EFD-F669-42D3-B4D9-ED4C256E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EFCE-FF02-40F4-B77B-1E3B33A5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0E28-775E-4418-8CEF-4316E03D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36E3-9FCB-4190-ABC0-FEEFDFA9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0511F-78A2-48BC-95DC-DA734555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4BFB0-48F1-47FB-AE12-1B6F58F4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DBA4D-ED22-4DAB-9162-4D037102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DEA-FACF-4ABC-A485-9FE17115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5537-DE87-435E-8434-A51EAB64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B1364-B64C-409E-B73F-60AC4E63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AFBE8-F999-4651-8FC1-3D39FC3B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23A56-6BF5-42AA-A563-0BFADD39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D9635-F200-45F0-B848-215586E6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6871A-B2EE-4F48-92DB-4F53C39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C4B03-3F94-4450-B977-1004AB20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CEA45-7701-4244-9054-11F9E73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1B43D-123D-4B93-B140-64FD9939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3B08C-F40A-4D0E-8724-C10D91D2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1A4-EF39-430C-8754-C6B916B1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F5681-87CC-4871-A31F-4BBC6E8B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3C134-E2D9-4F10-AD5E-314C60DC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8AF3-9256-45E0-B4EE-E82CB4AD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C65C-2998-42FC-898F-72ABB23D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3C704-DA5E-4585-8C23-39E12A67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D76E8-CC55-44ED-B505-EAA07838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2AB57-9CF4-4AAC-918E-F0F0F52C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14213-23BE-4D41-8CDE-28B68921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4984-EBD3-4B8C-A3D0-E3478CC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DF223-8238-4CF0-8D7C-89C2645E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21E-2B3C-4CAC-BC0E-234B5E89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D045D-A05B-4C6E-B113-70A3740D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685D9-936F-44EA-8B64-A53B837A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CE48E-C873-4D67-859C-CFDCFFBC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40682-0678-44D2-9C64-637DA754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D1C57-0898-44E7-87CE-0C6514E7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97C2-6934-4A02-8BEC-A2E2B19D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577C8-AED9-4B3D-B79E-20003CA6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FA6C-3634-4F92-854E-B431BD4C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9EAB6-5F9A-4B40-96A5-B93524C0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4D825-D995-4C87-8D2C-91830AC8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138-51DD-422E-802E-92D047D0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3124E-D844-44C5-9D37-DDDD3B1E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3981-A159-4A3D-9225-C137702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A75F3-204C-45EF-93FE-F556DF25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2658-759F-4A7F-BD4B-584C15F3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04971-BDAA-4959-8CD9-0DD54228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0EC32-C7EA-40EF-9165-18DACA2D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6716A-FC4B-49FC-BAE8-2B1BC426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74925-B866-40CB-A316-43FA1A57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4A1D9-BB18-4EAB-A9B1-93B46D15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665A8-E5BA-404D-92EE-E3ACF4AF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F8F-0296-4E16-A27A-385E2B1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0CA45-C925-494B-8CEE-471D984C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4A3E7-F5AA-4BFD-8D38-C00C3B53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7C823-5FE3-486C-B3AC-E2D90722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5461B-8E93-49CA-961B-FFC0F8E9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F706E-738E-4C87-87EA-009C0CC4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78E5C-A2E5-47F5-9108-894548A6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B1F70-8875-4997-A5E0-BFF9D26C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B8F2B-374E-40A7-B155-672EF016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396A1-4E87-4773-AEF0-EBE1F48C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BBB87-354E-4409-B9FD-C48FFA91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FF3C-B92D-493D-9933-F2B1ED110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6F0E-B4AB-4B77-8FC1-DB55E00AD2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EC6D-82C7-4D83-B2C4-449382F9C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9D44-D219-44C4-AD91-4BC24300B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7918-8E25-47AD-B4E2-870DB8F65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111B-95CE-4882-9C02-C0A6D772D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0D68-71DD-45F9-A827-499105DD4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8626-12BD-4E4F-BA9A-9D98A8F78E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3AD0-D20A-41D1-A161-302A7AB4B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E84E-89EE-40D5-AC41-21EDCC5D6B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81D3-3CCB-42FD-B65D-0229A3BBE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69F3-D55F-4192-9078-57B09C7875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D0C7-8161-4E27-BAD6-B80713D81F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D9DC-3320-496E-ACE7-F6D2BD4BAD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F627-C6AD-485B-A746-CC2CE9DAFB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F386-F224-4A6D-B83E-FA2E285C8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C775-E7A4-4D65-B28B-AE2931E998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2FB6-6967-4A2B-96B2-C48A0A944D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898-9EDB-4388-AF02-151493F118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8472-8933-4D21-BA1E-4C6945B48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5432-59D8-40D9-B96E-9A740D421E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BB04-0A35-4C80-861A-9B1FFFC71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85EE-82D8-4AD5-8828-15A31D32F1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27E9-CCF2-44A4-A269-7C6D3AEC76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B749-6994-4F06-9B96-F5DC3BBA3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3AF4-D533-40FB-9712-BD15C88AD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85B5-8E1B-48A4-AD5F-4C957315D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EA1F-683F-4E4A-BA6A-264667004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E16D-8837-42F6-AA4C-7D9F511CB1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1EA2-6BFF-46E4-A159-2D1E65834D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1867-09DE-44FD-B5D0-47F4AAD0A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B5EC-1E9B-48B8-8E7A-02151AAABD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B1F-5B6D-44CB-94D6-6688CD3D53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91FB-BEFD-4883-B6DC-37450B173B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B46B-2F3B-4CAB-8B86-EBAB9EE194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040A-7346-461C-8922-38A0CBDAA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A5C2-E1E2-4DB5-9A81-6F14FB022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E4E-80A7-4323-9502-684EAB44A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E90D-C3CB-4A13-9304-CC807FDE34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5EEC-1003-49AA-8BD6-90FCBE5FF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71720" y="3000240"/>
            <a:ext cx="70005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00040" y="1019160"/>
            <a:ext cx="8124840" cy="5267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486080" y="278136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476360" y="465300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476360" y="558972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85720" y="838080"/>
            <a:ext cx="7972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905040" y="1352520"/>
            <a:ext cx="7333920" cy="4152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3830760" y="1741320"/>
            <a:ext cx="1245960" cy="438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6084720" y="1741320"/>
            <a:ext cx="1582920" cy="438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4"/>
          <a:stretch/>
        </p:blipFill>
        <p:spPr>
          <a:xfrm>
            <a:off x="3708360" y="2805120"/>
            <a:ext cx="124452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5"/>
          <a:stretch/>
        </p:blipFill>
        <p:spPr>
          <a:xfrm>
            <a:off x="5961240" y="2805120"/>
            <a:ext cx="1584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6"/>
          <a:stretch/>
        </p:blipFill>
        <p:spPr>
          <a:xfrm>
            <a:off x="3860640" y="3875040"/>
            <a:ext cx="124488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7"/>
          <a:stretch/>
        </p:blipFill>
        <p:spPr>
          <a:xfrm>
            <a:off x="6113520" y="3875040"/>
            <a:ext cx="158436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8"/>
          <a:stretch/>
        </p:blipFill>
        <p:spPr>
          <a:xfrm>
            <a:off x="3708360" y="4935600"/>
            <a:ext cx="124452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9"/>
          <a:stretch/>
        </p:blipFill>
        <p:spPr>
          <a:xfrm>
            <a:off x="5961240" y="4935600"/>
            <a:ext cx="1584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95360" y="1004760"/>
            <a:ext cx="81532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7057800" cy="1914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2" descr=""/>
          <p:cNvPicPr/>
          <p:nvPr/>
        </p:nvPicPr>
        <p:blipFill>
          <a:blip r:embed="rId2"/>
          <a:stretch/>
        </p:blipFill>
        <p:spPr>
          <a:xfrm>
            <a:off x="928800" y="3286080"/>
            <a:ext cx="73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3"/>
          <a:stretch/>
        </p:blipFill>
        <p:spPr>
          <a:xfrm>
            <a:off x="1444680" y="10461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4"/>
          <a:stretch/>
        </p:blipFill>
        <p:spPr>
          <a:xfrm>
            <a:off x="1403280" y="1766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5"/>
          <a:stretch/>
        </p:blipFill>
        <p:spPr>
          <a:xfrm>
            <a:off x="1403280" y="33512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6"/>
          <a:stretch/>
        </p:blipFill>
        <p:spPr>
          <a:xfrm>
            <a:off x="1332000" y="47973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566640" y="785880"/>
            <a:ext cx="8010720" cy="59245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7236000" y="2390760"/>
            <a:ext cx="129672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3"/>
          <a:stretch/>
        </p:blipFill>
        <p:spPr>
          <a:xfrm>
            <a:off x="1763640" y="316224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4"/>
          <a:stretch/>
        </p:blipFill>
        <p:spPr>
          <a:xfrm>
            <a:off x="7236000" y="3913200"/>
            <a:ext cx="129672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5"/>
          <a:stretch/>
        </p:blipFill>
        <p:spPr>
          <a:xfrm>
            <a:off x="1763640" y="468468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6"/>
          <a:stretch/>
        </p:blipFill>
        <p:spPr>
          <a:xfrm>
            <a:off x="1916280" y="6207120"/>
            <a:ext cx="1295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928800" y="750960"/>
            <a:ext cx="7505640" cy="6084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2"/>
          <a:stretch/>
        </p:blipFill>
        <p:spPr>
          <a:xfrm>
            <a:off x="6300720" y="712800"/>
            <a:ext cx="1295640" cy="3668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3"/>
          <a:stretch/>
        </p:blipFill>
        <p:spPr>
          <a:xfrm>
            <a:off x="3492360" y="203040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4"/>
          <a:stretch/>
        </p:blipFill>
        <p:spPr>
          <a:xfrm>
            <a:off x="4308480" y="3429000"/>
            <a:ext cx="2076480" cy="923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6" descr=""/>
          <p:cNvPicPr/>
          <p:nvPr/>
        </p:nvPicPr>
        <p:blipFill>
          <a:blip r:embed="rId5"/>
          <a:stretch/>
        </p:blipFill>
        <p:spPr>
          <a:xfrm>
            <a:off x="2500200" y="4357800"/>
            <a:ext cx="2619360" cy="8474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6" descr=""/>
          <p:cNvPicPr/>
          <p:nvPr/>
        </p:nvPicPr>
        <p:blipFill>
          <a:blip r:embed="rId6"/>
          <a:stretch/>
        </p:blipFill>
        <p:spPr>
          <a:xfrm>
            <a:off x="3429000" y="5703840"/>
            <a:ext cx="26193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Picture 3" descr=""/>
          <p:cNvPicPr/>
          <p:nvPr/>
        </p:nvPicPr>
        <p:blipFill>
          <a:blip r:embed="rId1"/>
          <a:stretch/>
        </p:blipFill>
        <p:spPr>
          <a:xfrm>
            <a:off x="790560" y="995400"/>
            <a:ext cx="7562880" cy="5505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3" descr=""/>
          <p:cNvPicPr/>
          <p:nvPr/>
        </p:nvPicPr>
        <p:blipFill>
          <a:blip r:embed="rId2"/>
          <a:stretch/>
        </p:blipFill>
        <p:spPr>
          <a:xfrm>
            <a:off x="4143240" y="1428840"/>
            <a:ext cx="1686240" cy="7808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3"/>
          <a:stretch/>
        </p:blipFill>
        <p:spPr>
          <a:xfrm>
            <a:off x="1428840" y="3286080"/>
            <a:ext cx="2752560" cy="8380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5" descr=""/>
          <p:cNvPicPr/>
          <p:nvPr/>
        </p:nvPicPr>
        <p:blipFill>
          <a:blip r:embed="rId4"/>
          <a:stretch/>
        </p:blipFill>
        <p:spPr>
          <a:xfrm>
            <a:off x="3643200" y="4857840"/>
            <a:ext cx="2467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7:5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